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B2E-55B4-4F74-AFDB-16E6A3DF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DCB-40F4-4F86-97D2-1B5A885E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EB6-6F9F-4B7C-9891-7A5D6D10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529-4BC8-4321-BB35-D3BBA848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131-50B8-4376-8EDC-60A47A7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9CE-7A00-48FD-BD53-AE3BB1D8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014-CDE6-438B-85B2-561948DF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FFA-1244-49C0-9350-57A6379F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F69-4F58-4643-A45C-3C1C19F6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7B8-8911-4E2D-8B39-9180203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2C2-2E6F-4233-B1EF-AB75FFF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264-E0CE-4230-B77C-F62A2EF9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B63E-D182-4216-BA27-A7F0C100048A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14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Data provider 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. D.Pr.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60548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498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 Notify / Update Hazmat declaration for ships expected to depar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&gt; Step 1: Select Vesse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75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50800" y="3508200"/>
            <a:ext cx="7966080" cy="1608480"/>
            <a:chOff x="550800" y="3508200"/>
            <a:chExt cx="7966080" cy="1608480"/>
          </a:xfrm>
        </p:grpSpPr>
        <p:sp>
          <p:nvSpPr>
            <p:cNvPr id="80" name=""/>
            <p:cNvSpPr/>
            <p:nvPr/>
          </p:nvSpPr>
          <p:spPr>
            <a:xfrm>
              <a:off x="550800" y="35082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52800" y="35082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67120" y="35082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6680" y="35082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38680" y="35082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65680" y="35082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73960" y="35082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45600" y="35082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0800" y="39049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 </a:t>
              </a:r>
              <a:r>
                <a:rPr b="1" lang="en-US" sz="1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2800" y="39049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67120" y="39049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6680" y="39049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38680" y="39049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65680" y="390492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15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73960" y="390492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22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45600" y="39049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800" y="43113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52800" y="43113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67120" y="43113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46680" y="43113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38680" y="43113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65680" y="43113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73960" y="431136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2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5600" y="43113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0800" y="47178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9840" y="47178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54520" y="47178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33720" y="47178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6080" y="47178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3080" y="47178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61000" y="47178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32640" y="47178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200" y="3894120"/>
            <a:ext cx="7953480" cy="406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9200" y="4341960"/>
            <a:ext cx="0" cy="996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75000" y="5381640"/>
            <a:ext cx="46530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The application should automatically retrieve data stored so far in the database and related to that specific shi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3080" y="1363680"/>
            <a:ext cx="836424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560" y="1620720"/>
            <a:ext cx="692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 </a:t>
            </a:r>
            <a:r>
              <a:rPr b="1" lang="en-US" sz="1200" spc="-1" strike="noStrike">
                <a:solidFill>
                  <a:srgbClr val="0099ff"/>
                </a:solidFill>
                <a:latin typeface="Verdana"/>
              </a:rPr>
              <a:t>(EU loading por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 Notify / Update Hazmat declaration for ships expected to depart&gt;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 Step2: Insert/update HAZMA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3520" y="2022480"/>
            <a:ext cx="9144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 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038320"/>
            <a:ext cx="249876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86040" y="2612880"/>
            <a:ext cx="8143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86040" y="2843280"/>
            <a:ext cx="1533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63052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876400"/>
            <a:ext cx="151452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1520" y="2600280"/>
            <a:ext cx="1514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22:2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2882880"/>
            <a:ext cx="151452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2638440"/>
            <a:ext cx="669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6000" y="2625840"/>
            <a:ext cx="706680" cy="231120"/>
          </a:xfrm>
          <a:prstGeom prst="rect">
            <a:avLst/>
          </a:prstGeom>
          <a:solidFill>
            <a:srgbClr val="ffcc00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9780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97800" y="2889360"/>
            <a:ext cx="145260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038320"/>
            <a:ext cx="24987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365640"/>
            <a:ext cx="7661160" cy="29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expected to depart or departing ships carrying Hazma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5640" y="64245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01000" y="642456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5732640"/>
            <a:ext cx="28101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 (upon departur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62200" y="572292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4840" y="537372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69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74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89560" y="6416640"/>
            <a:ext cx="85104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3000" y="6402240"/>
            <a:ext cx="280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16480" y="231300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2313000"/>
            <a:ext cx="201600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7:17Z</dcterms:modified>
  <cp:revision>387</cp:revision>
  <dc:subject/>
  <dc:title>Slide 1</dc:title>
</cp:coreProperties>
</file>